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90360" y="495360"/>
            <a:ext cx="81788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90360" y="4578480"/>
            <a:ext cx="817884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81120" y="219672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9036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81120" y="4578480"/>
            <a:ext cx="399096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5588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1400" y="219672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9036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5588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1400" y="4578480"/>
            <a:ext cx="2633400" cy="217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155600"/>
            <a:ext cx="8178840" cy="270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15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90360" y="91404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3504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18116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72728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286000" indent="-4316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85768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85768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857680" indent="-43200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451240"/>
            <a:ext cx="8178840" cy="270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328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3504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18116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72728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286000" indent="-43164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85768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85768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857680" indent="-432000">
              <a:spcBef>
                <a:spcPts val="9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5715000"/>
            <a:ext cx="8178840" cy="1473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90360" y="2196720"/>
            <a:ext cx="38732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0000"/>
          </a:bodyPr>
          <a:p>
            <a:pPr marL="38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1" marL="711000" indent="-2433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2" marL="995400" indent="-2433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3" marL="132048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4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5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6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482760" indent="-3049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1" marL="888840" indent="-3045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2" marL="1244520" indent="-3045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3" marL="1650960" indent="-3049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4" marL="2057400" indent="-3049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5" marL="2057400" indent="-3049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6" marL="2057400" indent="-3049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90360" y="2196720"/>
            <a:ext cx="38732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0000"/>
          </a:bodyPr>
          <a:p>
            <a:pPr marL="38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1" marL="711000" indent="-2433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2" marL="995400" indent="-24336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3" marL="132048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4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5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6" marL="1645920" indent="-2437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740200" y="2196720"/>
            <a:ext cx="342900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352080" indent="-22248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1" marL="648720" indent="-2221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2" marL="908280" indent="-22212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3" marL="1204920" indent="-22248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4" marL="1501560" indent="-22248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5" marL="1501560" indent="-22248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lvl="6" marL="1501560" indent="-222480">
              <a:spcBef>
                <a:spcPts val="2200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9880" y="1650600"/>
            <a:ext cx="477540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4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59880" y="4191120"/>
            <a:ext cx="4775400" cy="182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1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2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3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4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5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  <a:p>
            <a:pPr lvl="6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2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heerdegen@me.co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yptool-online.org/" TargetMode="External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1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1155600"/>
            <a:ext cx="8178840" cy="270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Verschlüsseln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115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a14"/>
                </a:solidFill>
                <a:latin typeface="Papyrus"/>
              </a:rPr>
              <a:t>Hartmut Heerdegen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heerdegen@me.com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Baby-Vigenére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463840" y="2133720"/>
          <a:ext cx="5219640" cy="4686120"/>
        </p:xfrm>
        <a:graphic>
          <a:graphicData uri="http://schemas.openxmlformats.org/drawingml/2006/table">
            <a:tbl>
              <a:tblPr/>
              <a:tblGrid>
                <a:gridCol w="870120"/>
                <a:gridCol w="869760"/>
                <a:gridCol w="870120"/>
                <a:gridCol w="869760"/>
                <a:gridCol w="870120"/>
                <a:gridCol w="869760"/>
              </a:tblGrid>
              <a:tr h="780840"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001a14"/>
                      </a:solidFill>
                    </a:lnL>
                    <a:lnR w="12240">
                      <a:solidFill>
                        <a:srgbClr val="00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001a14"/>
                      </a:solidFill>
                    </a:lnB>
                    <a:solidFill>
                      <a:srgbClr val="266215"/>
                    </a:solidFill>
                  </a:tcPr>
                </a:tc>
              </a:tr>
              <a:tr h="78084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00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266215"/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mono vs. poly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714240" y="2476440"/>
          <a:ext cx="8717040" cy="4000680"/>
        </p:xfrm>
        <a:graphic>
          <a:graphicData uri="http://schemas.openxmlformats.org/drawingml/2006/table">
            <a:tbl>
              <a:tblPr/>
              <a:tblGrid>
                <a:gridCol w="2674800"/>
                <a:gridCol w="3027600"/>
                <a:gridCol w="3014640"/>
              </a:tblGrid>
              <a:tr h="1000080">
                <a:tc>
                  <a:txBody>
                    <a:bodyPr lIns="25200" rIns="25200" tIns="25200" bIns="252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200" marR="2520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monoalphabetisch</a:t>
                      </a:r>
                      <a:endParaRPr b="0" lang="en-US" sz="2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polyalphabetisch</a:t>
                      </a:r>
                      <a:endParaRPr b="0" lang="en-US" sz="2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</a:tr>
              <a:tr h="1000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Einfachheit</a:t>
                      </a:r>
                      <a:endParaRPr b="0" lang="en-US" sz="2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+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-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Sicherheit</a:t>
                      </a:r>
                      <a:endParaRPr b="0" lang="en-US" sz="2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-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+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Schlüsseltausch</a:t>
                      </a:r>
                      <a:endParaRPr b="0" lang="en-US" sz="2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solidFill>
                      <a:srgbClr val="cb995b">
                        <a:alpha val="48000"/>
                      </a:srgbClr>
                    </a:solidFill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+/-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25560" rIns="25560" tIns="25560" bIns="25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2f1a14"/>
                          </a:solidFill>
                          <a:latin typeface="Papyrus"/>
                          <a:ea typeface="ヒラギノ角ゴ ProN W3"/>
                        </a:rPr>
                        <a:t>+</a:t>
                      </a:r>
                      <a:endParaRPr b="0" lang="en-US" sz="36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ctr" marL="25560" marR="255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rypttool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Papyrus"/>
                <a:hlinkClick r:id="rId2"/>
              </a:rPr>
              <a:t>http://www.cryptool-online.org</a:t>
            </a: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/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200 Jahre Schatzsuche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360" y="2196720"/>
            <a:ext cx="81788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f1a14"/>
                </a:solidFill>
                <a:uFillTx/>
                <a:latin typeface="Papyrus"/>
              </a:rPr>
              <a:t>http://de.wikipedia.org/wiki/Beale-Chiffre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symmetrisch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5" name=""/>
          <p:cNvSpPr/>
          <p:nvPr/>
        </p:nvSpPr>
        <p:spPr>
          <a:xfrm>
            <a:off x="1234800" y="3929040"/>
            <a:ext cx="167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Klartex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6" name=""/>
          <p:cNvSpPr/>
          <p:nvPr/>
        </p:nvSpPr>
        <p:spPr>
          <a:xfrm>
            <a:off x="6382800" y="3929040"/>
            <a:ext cx="2504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Geheimtex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7" name=""/>
          <p:cNvSpPr/>
          <p:nvPr/>
        </p:nvSpPr>
        <p:spPr>
          <a:xfrm>
            <a:off x="3196080" y="5376960"/>
            <a:ext cx="377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privater Schlüss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1765440" y="4635360"/>
            <a:ext cx="419040" cy="1079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7886880" y="4648320"/>
            <a:ext cx="317160" cy="9777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7201080" y="5346720"/>
            <a:ext cx="914400" cy="4190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1866960" y="5435640"/>
            <a:ext cx="91440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asymmetrisch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3" name=""/>
          <p:cNvSpPr/>
          <p:nvPr/>
        </p:nvSpPr>
        <p:spPr>
          <a:xfrm>
            <a:off x="1234800" y="3929040"/>
            <a:ext cx="167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Klartex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4" name=""/>
          <p:cNvSpPr/>
          <p:nvPr/>
        </p:nvSpPr>
        <p:spPr>
          <a:xfrm>
            <a:off x="6382800" y="3929040"/>
            <a:ext cx="2504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Geheimtex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5" name=""/>
          <p:cNvSpPr/>
          <p:nvPr/>
        </p:nvSpPr>
        <p:spPr>
          <a:xfrm>
            <a:off x="2800440" y="2481480"/>
            <a:ext cx="456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öffentlicher Schlüss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6" name=""/>
          <p:cNvSpPr/>
          <p:nvPr/>
        </p:nvSpPr>
        <p:spPr>
          <a:xfrm>
            <a:off x="3196080" y="5376960"/>
            <a:ext cx="377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privater Schlüss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1863720" y="2703600"/>
            <a:ext cx="114480" cy="10033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370640" y="2705040"/>
            <a:ext cx="673200" cy="114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1765440" y="4635360"/>
            <a:ext cx="419040" cy="10796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7988400" y="4648320"/>
            <a:ext cx="88920" cy="9777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1855800" y="2576520"/>
            <a:ext cx="914400" cy="419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7"/>
          <a:stretch/>
        </p:blipFill>
        <p:spPr>
          <a:xfrm>
            <a:off x="7797960" y="2692440"/>
            <a:ext cx="317520" cy="9777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8"/>
          <a:stretch/>
        </p:blipFill>
        <p:spPr>
          <a:xfrm>
            <a:off x="7201080" y="5346720"/>
            <a:ext cx="914400" cy="4190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9"/>
          <a:stretch/>
        </p:blipFill>
        <p:spPr>
          <a:xfrm>
            <a:off x="1866960" y="5575320"/>
            <a:ext cx="91440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Gaius Iulius Caesar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49160" y="1547640"/>
            <a:ext cx="4013280" cy="5549760"/>
            <a:chOff x="749160" y="1547640"/>
            <a:chExt cx="4013280" cy="554976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1104840" y="1903320"/>
              <a:ext cx="328932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>
              <a:off x="749160" y="1547640"/>
              <a:ext cx="4013280" cy="554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5127480" y="6037200"/>
            <a:ext cx="397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100 v.u.Z - 44 v.u.Z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Cäsarchiffre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870120" y="3365640"/>
          <a:ext cx="8407080" cy="2209680"/>
        </p:xfrm>
        <a:graphic>
          <a:graphicData uri="http://schemas.openxmlformats.org/drawingml/2006/table">
            <a:tbl>
              <a:tblPr/>
              <a:tblGrid>
                <a:gridCol w="323280"/>
                <a:gridCol w="323280"/>
                <a:gridCol w="323280"/>
                <a:gridCol w="323280"/>
                <a:gridCol w="323640"/>
                <a:gridCol w="323280"/>
                <a:gridCol w="323280"/>
                <a:gridCol w="323280"/>
                <a:gridCol w="32328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280"/>
                <a:gridCol w="323280"/>
                <a:gridCol w="323640"/>
                <a:gridCol w="323280"/>
              </a:tblGrid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Klar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621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Geheim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45e1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Atbash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870120" y="3365640"/>
          <a:ext cx="8407080" cy="2209680"/>
        </p:xfrm>
        <a:graphic>
          <a:graphicData uri="http://schemas.openxmlformats.org/drawingml/2006/table">
            <a:tbl>
              <a:tblPr/>
              <a:tblGrid>
                <a:gridCol w="323280"/>
                <a:gridCol w="323280"/>
                <a:gridCol w="323280"/>
                <a:gridCol w="323280"/>
                <a:gridCol w="323640"/>
                <a:gridCol w="323280"/>
                <a:gridCol w="323280"/>
                <a:gridCol w="323280"/>
                <a:gridCol w="32328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280"/>
                <a:gridCol w="323280"/>
                <a:gridCol w="323640"/>
                <a:gridCol w="323280"/>
              </a:tblGrid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Klar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621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Geheim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45e1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495000"/>
            <a:ext cx="8178840" cy="1879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Permutation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870120" y="3365640"/>
          <a:ext cx="8407080" cy="2209680"/>
        </p:xfrm>
        <a:graphic>
          <a:graphicData uri="http://schemas.openxmlformats.org/drawingml/2006/table">
            <a:tbl>
              <a:tblPr/>
              <a:tblGrid>
                <a:gridCol w="323280"/>
                <a:gridCol w="323280"/>
                <a:gridCol w="323280"/>
                <a:gridCol w="323280"/>
                <a:gridCol w="323640"/>
                <a:gridCol w="323280"/>
                <a:gridCol w="323280"/>
                <a:gridCol w="323280"/>
                <a:gridCol w="32328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280"/>
                <a:gridCol w="323280"/>
                <a:gridCol w="323640"/>
                <a:gridCol w="323280"/>
              </a:tblGrid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Klar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621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Geheim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45e1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495000"/>
            <a:ext cx="8178840" cy="1879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Permutation</a:t>
            </a:r>
            <a:br>
              <a:rPr sz="5600"/>
            </a:b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(Schlüsselwort=MEDIENKUNDE)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870120" y="3365640"/>
          <a:ext cx="8407080" cy="2209680"/>
        </p:xfrm>
        <a:graphic>
          <a:graphicData uri="http://schemas.openxmlformats.org/drawingml/2006/table">
            <a:tbl>
              <a:tblPr/>
              <a:tblGrid>
                <a:gridCol w="323280"/>
                <a:gridCol w="323280"/>
                <a:gridCol w="323280"/>
                <a:gridCol w="323280"/>
                <a:gridCol w="323640"/>
                <a:gridCol w="323280"/>
                <a:gridCol w="323280"/>
                <a:gridCol w="323280"/>
                <a:gridCol w="32328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640"/>
                <a:gridCol w="322920"/>
                <a:gridCol w="323640"/>
                <a:gridCol w="322920"/>
                <a:gridCol w="323640"/>
                <a:gridCol w="323280"/>
                <a:gridCol w="323280"/>
                <a:gridCol w="323640"/>
                <a:gridCol w="323280"/>
              </a:tblGrid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Klar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6621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M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E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D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I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N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K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U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F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G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H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J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L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O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P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Q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R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S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T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V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W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X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Y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pyrus"/>
                          <a:ea typeface="ヒラギノ角ゴ ProN W3"/>
                        </a:rPr>
                        <a:t>Z</a:t>
                      </a:r>
                      <a:endParaRPr b="0" lang="en-US" sz="18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gridSpan="26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Papyrus"/>
                          <a:ea typeface="ヒラギノ角ゴ ProN W3"/>
                        </a:rPr>
                        <a:t>Geheimalphabet</a:t>
                      </a:r>
                      <a:endParaRPr b="0" lang="en-US" sz="24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45e1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2f1a14"/>
                        </a:solidFill>
                        <a:latin typeface="Papyru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Maria Stuart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39960" y="1835280"/>
            <a:ext cx="3733560" cy="5308560"/>
            <a:chOff x="939960" y="1835280"/>
            <a:chExt cx="3733560" cy="5308560"/>
          </a:xfrm>
        </p:grpSpPr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1295280" y="2190960"/>
              <a:ext cx="299844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3"/>
            <a:stretch/>
          </p:blipFill>
          <p:spPr>
            <a:xfrm>
              <a:off x="939960" y="1835280"/>
              <a:ext cx="3733560" cy="530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"/>
          <p:cNvSpPr/>
          <p:nvPr/>
        </p:nvSpPr>
        <p:spPr>
          <a:xfrm>
            <a:off x="5872680" y="6037200"/>
            <a:ext cx="248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1542 - 1587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571680" y="930240"/>
            <a:ext cx="9016920" cy="5778360"/>
            <a:chOff x="571680" y="930240"/>
            <a:chExt cx="9016920" cy="5778360"/>
          </a:xfrm>
        </p:grpSpPr>
        <p:pic>
          <p:nvPicPr>
            <p:cNvPr id="471" name="" descr=""/>
            <p:cNvPicPr/>
            <p:nvPr/>
          </p:nvPicPr>
          <p:blipFill>
            <a:blip r:embed="rId2"/>
            <a:stretch/>
          </p:blipFill>
          <p:spPr>
            <a:xfrm>
              <a:off x="927360" y="1285920"/>
              <a:ext cx="8292960" cy="50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571680" y="930240"/>
              <a:ext cx="9016920" cy="5778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495360"/>
            <a:ext cx="8178840" cy="165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2f1a14"/>
                </a:solidFill>
                <a:latin typeface="Papyrus"/>
              </a:rPr>
              <a:t>Blaise de Vigenère</a:t>
            </a:r>
            <a:endParaRPr b="0" lang="en-US" sz="5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4" name=""/>
          <p:cNvSpPr/>
          <p:nvPr/>
        </p:nvSpPr>
        <p:spPr>
          <a:xfrm>
            <a:off x="1212840" y="6291360"/>
            <a:ext cx="248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  <a:ea typeface="Papyrus"/>
              </a:rPr>
              <a:t>1523 - 1596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334120" y="1998720"/>
            <a:ext cx="3835440" cy="495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