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64880" y="203040"/>
            <a:ext cx="981684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90360" y="4503600"/>
            <a:ext cx="817884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81120" y="179028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9036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181120" y="4503600"/>
            <a:ext cx="399096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75588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21400" y="179028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9036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75588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21400" y="4503600"/>
            <a:ext cx="2633400" cy="247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160" y="1384200"/>
            <a:ext cx="8178840" cy="2438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82b1c"/>
                </a:solidFill>
                <a:latin typeface="Optima"/>
              </a:rPr>
              <a:t>Click to edit the title text format</a:t>
            </a:r>
            <a:endParaRPr b="0" lang="en-US" sz="7000" spc="-1" strike="noStrike">
              <a:solidFill>
                <a:srgbClr val="282b1c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4160" y="3924000"/>
            <a:ext cx="8178840" cy="2235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t">
            <a:normAutofit fontScale="6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1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2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3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4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5" algn="ctr">
              <a:buClr>
                <a:srgbClr val="292c1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6" algn="ctr">
              <a:buClr>
                <a:srgbClr val="292c1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1599840" y="914040"/>
            <a:ext cx="7480440" cy="579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2000"/>
          </a:bodyPr>
          <a:p>
            <a:pPr marL="496440" indent="-321120">
              <a:spcBef>
                <a:spcPts val="5000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858600" indent="-321120">
              <a:spcBef>
                <a:spcPts val="5000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2" marL="1238040" indent="-321120">
              <a:spcBef>
                <a:spcPts val="5000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3" marL="1614960" indent="-321120">
              <a:spcBef>
                <a:spcPts val="5000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4" marL="1991880" indent="-321120">
              <a:spcBef>
                <a:spcPts val="5000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5" marL="1991880" indent="-321120">
              <a:spcBef>
                <a:spcPts val="5000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6" marL="1991880" indent="-321120">
              <a:spcBef>
                <a:spcPts val="5000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44160" y="2590560"/>
            <a:ext cx="817884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82b1c"/>
                </a:solidFill>
                <a:latin typeface="Optima"/>
              </a:rPr>
              <a:t>Click to edit the title text format</a:t>
            </a:r>
            <a:endParaRPr b="0" lang="en-US" sz="7000" spc="-1" strike="noStrike">
              <a:solidFill>
                <a:srgbClr val="282b1c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1384200"/>
            <a:ext cx="4927320" cy="2438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82b1c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282b1c"/>
              </a:solidFill>
              <a:latin typeface="Opti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71320" y="3924000"/>
            <a:ext cx="4927320" cy="2235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t">
            <a:normAutofit fontScale="7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Optima"/>
              </a:rPr>
              <a:t>Click to edit the outline text format</a:t>
            </a:r>
            <a:endParaRPr b="0" lang="en-US" sz="2800" spc="-1" strike="noStrike">
              <a:solidFill>
                <a:srgbClr val="282b1c"/>
              </a:solidFill>
              <a:latin typeface="Optima"/>
            </a:endParaRPr>
          </a:p>
          <a:p>
            <a:pPr lvl="1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282b1c"/>
              </a:solidFill>
              <a:latin typeface="Optima"/>
            </a:endParaRPr>
          </a:p>
          <a:p>
            <a:pPr lvl="2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Optima"/>
              </a:rPr>
              <a:t>Third Outline Level</a:t>
            </a:r>
            <a:endParaRPr b="0" lang="en-US" sz="2800" spc="-1" strike="noStrike">
              <a:solidFill>
                <a:srgbClr val="282b1c"/>
              </a:solidFill>
              <a:latin typeface="Optima"/>
            </a:endParaRPr>
          </a:p>
          <a:p>
            <a:pPr lvl="3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Optima"/>
              </a:rPr>
              <a:t>Fourth Outline Level</a:t>
            </a:r>
            <a:endParaRPr b="0" lang="en-US" sz="2800" spc="-1" strike="noStrike">
              <a:solidFill>
                <a:srgbClr val="282b1c"/>
              </a:solidFill>
              <a:latin typeface="Optima"/>
            </a:endParaRPr>
          </a:p>
          <a:p>
            <a:pPr lvl="4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Optima"/>
              </a:rPr>
              <a:t>Fifth Outline Level</a:t>
            </a:r>
            <a:endParaRPr b="0" lang="en-US" sz="2800" spc="-1" strike="noStrike">
              <a:solidFill>
                <a:srgbClr val="282b1c"/>
              </a:solidFill>
              <a:latin typeface="Optima"/>
            </a:endParaRPr>
          </a:p>
          <a:p>
            <a:pPr lvl="5" algn="ctr">
              <a:buClr>
                <a:srgbClr val="292c1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Optima"/>
              </a:rPr>
              <a:t>Sixth Outline Level</a:t>
            </a:r>
            <a:endParaRPr b="0" lang="en-US" sz="2800" spc="-1" strike="noStrike">
              <a:solidFill>
                <a:srgbClr val="282b1c"/>
              </a:solidFill>
              <a:latin typeface="Optima"/>
            </a:endParaRPr>
          </a:p>
          <a:p>
            <a:pPr lvl="6" algn="ctr">
              <a:buClr>
                <a:srgbClr val="292c1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b1c"/>
                </a:solidFill>
                <a:latin typeface="Optima"/>
              </a:rPr>
              <a:t>Seventh Outline Level</a:t>
            </a:r>
            <a:endParaRPr b="0" lang="en-US" sz="2800" spc="-1" strike="noStrike">
              <a:solidFill>
                <a:srgbClr val="282b1c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99840" y="2145960"/>
            <a:ext cx="74804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51264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88668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2" marL="127872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3" marL="166788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4" marL="205704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5" marL="205704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6" marL="205704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4160" y="5562720"/>
            <a:ext cx="8178840" cy="157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82b1c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282b1c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2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3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4" algn="ctr">
              <a:buClr>
                <a:srgbClr val="282b1c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5">
              <a:spcBef>
                <a:spcPts val="799"/>
              </a:spcBef>
              <a:buClr>
                <a:srgbClr val="292c1f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  <a:p>
            <a:pPr lvl="6">
              <a:spcBef>
                <a:spcPts val="799"/>
              </a:spcBef>
              <a:buClr>
                <a:srgbClr val="292c1f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2b1c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282b1c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8013600" y="190440"/>
            <a:ext cx="1967040" cy="7265880"/>
            <a:chOff x="8013600" y="190440"/>
            <a:chExt cx="1967040" cy="7265880"/>
          </a:xfrm>
        </p:grpSpPr>
        <p:sp>
          <p:nvSpPr>
            <p:cNvPr id="116" name=""/>
            <p:cNvSpPr/>
            <p:nvPr/>
          </p:nvSpPr>
          <p:spPr>
            <a:xfrm>
              <a:off x="8013600" y="2138400"/>
              <a:ext cx="1967040" cy="531792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3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13600" y="190440"/>
              <a:ext cx="1967040" cy="195732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7840" y="190080"/>
            <a:ext cx="7835760" cy="195588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18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67212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100116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33056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67148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2000880" indent="-428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2000880" indent="-428040">
              <a:spcBef>
                <a:spcPts val="7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2000880" indent="-428040">
              <a:spcBef>
                <a:spcPts val="7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620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100476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3478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70352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2046240" indent="-446040">
              <a:spcBef>
                <a:spcPts val="1899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2046240" indent="-446040">
              <a:spcBef>
                <a:spcPts val="18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2046240" indent="-446040">
              <a:spcBef>
                <a:spcPts val="189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599840" y="2145960"/>
            <a:ext cx="342900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4000"/>
          </a:bodyPr>
          <a:p>
            <a:pPr marL="39924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69048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2" marL="99576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3" marL="129888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4" marL="160236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5" marL="160236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6" marL="160236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599840" y="2145960"/>
            <a:ext cx="74804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marL="51264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88668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2" marL="127872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3" marL="166788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4" marL="205704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5" marL="205704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6" marL="2057040" indent="-33156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599840" y="2145960"/>
            <a:ext cx="342900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4000"/>
          </a:bodyPr>
          <a:p>
            <a:pPr marL="39924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69048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2" marL="99576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3" marL="129888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4" marL="160236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5" marL="160236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6" marL="1602360" indent="-25812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299280" y="2145960"/>
            <a:ext cx="27813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372240" indent="-24084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Click to edit the outline text forma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644040" indent="-24084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con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2" marL="928440" indent="-24084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Third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3" marL="1211400" indent="-24084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our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4" marL="1494000" indent="-24084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if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5" marL="1494000" indent="-24084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ix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6" marL="1494000" indent="-240840"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eventh Outline Leve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44160" y="1384200"/>
            <a:ext cx="8178840" cy="2438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82b1c"/>
                </a:solidFill>
                <a:latin typeface="Optima"/>
              </a:rPr>
              <a:t>Kompression</a:t>
            </a:r>
            <a:endParaRPr b="0" lang="en-US" sz="7000" spc="-1" strike="noStrike">
              <a:solidFill>
                <a:srgbClr val="282b1c"/>
              </a:solidFill>
              <a:latin typeface="Opti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Algorithmus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99840" y="2806200"/>
            <a:ext cx="7480440" cy="3899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ür jede Bildzeile tue: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2" marL="1035000"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Ermittle nebeneinander liegende Bildpunkte mit gleicher Farbe.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2" marL="1035000"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Speichere: Anzahl der Punkte und Farbe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(vereinfacht)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892160" y="2819520"/>
            <a:ext cx="7302600" cy="2628720"/>
            <a:chOff x="1892160" y="2819520"/>
            <a:chExt cx="7302600" cy="2628720"/>
          </a:xfrm>
        </p:grpSpPr>
        <p:sp>
          <p:nvSpPr>
            <p:cNvPr id="566" name=""/>
            <p:cNvSpPr/>
            <p:nvPr/>
          </p:nvSpPr>
          <p:spPr>
            <a:xfrm>
              <a:off x="1892160" y="2819520"/>
              <a:ext cx="7289640" cy="262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21040" y="3454200"/>
              <a:ext cx="6260760" cy="1993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911320" y="4557240"/>
              <a:ext cx="62834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rcRect l="0" t="23654" r="0" b="23755"/>
          <a:stretch/>
        </p:blipFill>
        <p:spPr>
          <a:xfrm>
            <a:off x="177840" y="2146320"/>
            <a:ext cx="7835760" cy="53085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7840" y="190080"/>
            <a:ext cx="7835760" cy="195588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utura"/>
              </a:rPr>
              <a:t>Mp3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1" name=""/>
          <p:cNvSpPr/>
          <p:nvPr/>
        </p:nvSpPr>
        <p:spPr>
          <a:xfrm>
            <a:off x="8139600" y="3918240"/>
            <a:ext cx="17668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7272"/>
                </a:solidFill>
                <a:latin typeface="Futura"/>
                <a:ea typeface="Futura"/>
              </a:rPr>
              <a:t>24 kHz</a:t>
            </a:r>
            <a:endParaRPr b="0" lang="en-US" sz="3000" spc="-1" strike="noStrike">
              <a:solidFill>
                <a:srgbClr val="292c1f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c1f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7272"/>
                </a:solidFill>
                <a:latin typeface="Futura"/>
                <a:ea typeface="Futura"/>
              </a:rPr>
              <a:t>128 kBit/s</a:t>
            </a:r>
            <a:endParaRPr b="0" lang="en-US" sz="30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Qualitäten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965160" y="2133720"/>
          <a:ext cx="2997360" cy="1663560"/>
        </p:xfrm>
        <a:graphic>
          <a:graphicData uri="http://schemas.openxmlformats.org/drawingml/2006/table">
            <a:tbl>
              <a:tblPr/>
              <a:tblGrid>
                <a:gridCol w="1193760"/>
                <a:gridCol w="1803600"/>
              </a:tblGrid>
              <a:tr h="83196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CD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1,4 MBit/s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MP3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128 kBit/s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219640" y="2120760"/>
            <a:ext cx="406404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Qualitäten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965160" y="2133720"/>
          <a:ext cx="8229600" cy="4507920"/>
        </p:xfrm>
        <a:graphic>
          <a:graphicData uri="http://schemas.openxmlformats.org/drawingml/2006/table">
            <a:tbl>
              <a:tblPr/>
              <a:tblGrid>
                <a:gridCol w="1638360"/>
                <a:gridCol w="2476440"/>
                <a:gridCol w="2781360"/>
                <a:gridCol w="1333440"/>
              </a:tblGrid>
              <a:tr h="7513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96:1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8 KBit/s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Telefon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mono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48:1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16 KBit/s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besser als KW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mono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24:1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32 KBit/s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besser als MW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mono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26 bis 24:1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56 bis 64 KBit/s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ähnlich UKW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stereo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16:1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96 KBit/s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annähernd CD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stereo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14 bis 12:1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112 bis 128 KBit/s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CD-Qualität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stereo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Quantitä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965160" y="2133720"/>
          <a:ext cx="2997360" cy="1663200"/>
        </p:xfrm>
        <a:graphic>
          <a:graphicData uri="http://schemas.openxmlformats.org/drawingml/2006/table">
            <a:tbl>
              <a:tblPr/>
              <a:tblGrid>
                <a:gridCol w="1193760"/>
                <a:gridCol w="1803600"/>
              </a:tblGrid>
              <a:tr h="554400">
                <a:tc gridSpan="2"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CD, 700 MByte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4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AIFF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67 Minuten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MP3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727272"/>
                          </a:solidFill>
                          <a:latin typeface="Arial"/>
                          <a:ea typeface="Arial"/>
                        </a:rPr>
                        <a:t>730 Minuten</a:t>
                      </a:r>
                      <a:endParaRPr b="0" lang="en-US" sz="23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ctr" marL="54000" marR="5400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346720" y="2120760"/>
            <a:ext cx="393696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Mp3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32 angepasste Frequenzbänder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verzichtbare Frequenzen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Huffmann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AAC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Weiterentwicklung von Mp3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Kopierschutz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höhere Kompressionsrate (bis 1:16)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Huffmann-Verfahren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098720" y="3886200"/>
          <a:ext cx="7962840" cy="1003320"/>
        </p:xfrm>
        <a:graphic>
          <a:graphicData uri="http://schemas.openxmlformats.org/drawingml/2006/table">
            <a:tbl>
              <a:tblPr/>
              <a:tblGrid>
                <a:gridCol w="398160"/>
                <a:gridCol w="398160"/>
                <a:gridCol w="398160"/>
                <a:gridCol w="397800"/>
                <a:gridCol w="398160"/>
                <a:gridCol w="398160"/>
                <a:gridCol w="398160"/>
                <a:gridCol w="398160"/>
                <a:gridCol w="398160"/>
                <a:gridCol w="398160"/>
                <a:gridCol w="398160"/>
                <a:gridCol w="398160"/>
                <a:gridCol w="398160"/>
                <a:gridCol w="398160"/>
                <a:gridCol w="398160"/>
                <a:gridCol w="397800"/>
                <a:gridCol w="398160"/>
                <a:gridCol w="398160"/>
                <a:gridCol w="398160"/>
                <a:gridCol w="398520"/>
              </a:tblGrid>
              <a:tr h="5079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Häufigkeiten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098720" y="3886200"/>
          <a:ext cx="7848000" cy="1371600"/>
        </p:xfrm>
        <a:graphic>
          <a:graphicData uri="http://schemas.openxmlformats.org/drawingml/2006/table">
            <a:tbl>
              <a:tblPr/>
              <a:tblGrid>
                <a:gridCol w="1121040"/>
                <a:gridCol w="1121400"/>
                <a:gridCol w="1121040"/>
                <a:gridCol w="1121040"/>
                <a:gridCol w="1121040"/>
                <a:gridCol w="1121400"/>
                <a:gridCol w="1121040"/>
              </a:tblGrid>
              <a:tr h="69372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Z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6778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Baum 1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155600" y="3162240"/>
          <a:ext cx="7846920" cy="2438280"/>
        </p:xfrm>
        <a:graphic>
          <a:graphicData uri="http://schemas.openxmlformats.org/drawingml/2006/table">
            <a:tbl>
              <a:tblPr/>
              <a:tblGrid>
                <a:gridCol w="1119240"/>
                <a:gridCol w="2243880"/>
                <a:gridCol w="1120680"/>
                <a:gridCol w="1121040"/>
                <a:gridCol w="1121400"/>
                <a:gridCol w="1120680"/>
              </a:tblGrid>
              <a:tr h="17604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U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Z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6778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2962080" y="3355920"/>
            <a:ext cx="860400" cy="499680"/>
            <a:chOff x="2962080" y="3355920"/>
            <a:chExt cx="860400" cy="499680"/>
          </a:xfrm>
        </p:grpSpPr>
        <p:sp>
          <p:nvSpPr>
            <p:cNvPr id="591" name=""/>
            <p:cNvSpPr/>
            <p:nvPr/>
          </p:nvSpPr>
          <p:spPr>
            <a:xfrm>
              <a:off x="3417120" y="3355920"/>
              <a:ext cx="405360" cy="4996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62080" y="3363840"/>
              <a:ext cx="462600" cy="4816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Definition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99840" y="2145960"/>
            <a:ext cx="74804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Als Datenkompression bezeichnet man die Verringerung von Dateigrößen mit Hilfe geeigneter Verfahren.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Ziele: 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952200" indent="-342000">
              <a:lnSpc>
                <a:spcPct val="100000"/>
              </a:lnSpc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Einsparung von Speicherplatz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952200" indent="-342000">
              <a:lnSpc>
                <a:spcPct val="100000"/>
              </a:lnSpc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Einsparung von Übertragungszei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952200" indent="-342000">
              <a:lnSpc>
                <a:spcPct val="100000"/>
              </a:lnSpc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Entlastung der Netze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lvl="1" marL="952200" indent="-342000">
              <a:lnSpc>
                <a:spcPct val="100000"/>
              </a:lnSpc>
              <a:spcBef>
                <a:spcPts val="3101"/>
              </a:spcBef>
              <a:buClr>
                <a:srgbClr val="292c1f"/>
              </a:buClr>
              <a:buSzPct val="125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mehr Komfort beim Download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Baum 2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765440" y="3174840"/>
          <a:ext cx="6616440" cy="2438280"/>
        </p:xfrm>
        <a:graphic>
          <a:graphicData uri="http://schemas.openxmlformats.org/drawingml/2006/table">
            <a:tbl>
              <a:tblPr/>
              <a:tblGrid>
                <a:gridCol w="1120320"/>
                <a:gridCol w="1121040"/>
                <a:gridCol w="1120680"/>
                <a:gridCol w="2128680"/>
                <a:gridCol w="1125720"/>
              </a:tblGrid>
              <a:tr h="17604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Z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6778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95" name=""/>
          <p:cNvGrpSpPr/>
          <p:nvPr/>
        </p:nvGrpSpPr>
        <p:grpSpPr>
          <a:xfrm>
            <a:off x="5590800" y="3305160"/>
            <a:ext cx="860400" cy="499680"/>
            <a:chOff x="5590800" y="3305160"/>
            <a:chExt cx="860400" cy="499680"/>
          </a:xfrm>
        </p:grpSpPr>
        <p:sp>
          <p:nvSpPr>
            <p:cNvPr id="596" name=""/>
            <p:cNvSpPr/>
            <p:nvPr/>
          </p:nvSpPr>
          <p:spPr>
            <a:xfrm>
              <a:off x="6045840" y="3305160"/>
              <a:ext cx="405360" cy="4996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5590800" y="3313080"/>
              <a:ext cx="462600" cy="4816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006600" y="3797280"/>
            <a:ext cx="859320" cy="498240"/>
            <a:chOff x="6006600" y="3797280"/>
            <a:chExt cx="859320" cy="498240"/>
          </a:xfrm>
        </p:grpSpPr>
        <p:sp>
          <p:nvSpPr>
            <p:cNvPr id="599" name=""/>
            <p:cNvSpPr/>
            <p:nvPr/>
          </p:nvSpPr>
          <p:spPr>
            <a:xfrm>
              <a:off x="6460920" y="3797280"/>
              <a:ext cx="405000" cy="49824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006600" y="3805200"/>
              <a:ext cx="461880" cy="48024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5425200" y="3836520"/>
            <a:ext cx="28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02" name=""/>
          <p:cNvSpPr/>
          <p:nvPr/>
        </p:nvSpPr>
        <p:spPr>
          <a:xfrm>
            <a:off x="5900760" y="440784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03" name=""/>
          <p:cNvSpPr/>
          <p:nvPr/>
        </p:nvSpPr>
        <p:spPr>
          <a:xfrm>
            <a:off x="6787440" y="440784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Baum 6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136920" y="4613400"/>
            <a:ext cx="860400" cy="499680"/>
            <a:chOff x="6136920" y="4613400"/>
            <a:chExt cx="860400" cy="499680"/>
          </a:xfrm>
        </p:grpSpPr>
        <p:sp>
          <p:nvSpPr>
            <p:cNvPr id="606" name=""/>
            <p:cNvSpPr/>
            <p:nvPr/>
          </p:nvSpPr>
          <p:spPr>
            <a:xfrm>
              <a:off x="6591960" y="4613400"/>
              <a:ext cx="405360" cy="4996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136920" y="4621320"/>
              <a:ext cx="462600" cy="4816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552720" y="5105520"/>
            <a:ext cx="859320" cy="497880"/>
            <a:chOff x="6552720" y="5105520"/>
            <a:chExt cx="859320" cy="497880"/>
          </a:xfrm>
        </p:grpSpPr>
        <p:sp>
          <p:nvSpPr>
            <p:cNvPr id="609" name=""/>
            <p:cNvSpPr/>
            <p:nvPr/>
          </p:nvSpPr>
          <p:spPr>
            <a:xfrm>
              <a:off x="7007040" y="5105520"/>
              <a:ext cx="405000" cy="4978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552720" y="5113440"/>
              <a:ext cx="461880" cy="4798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5971320" y="5144400"/>
            <a:ext cx="28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12" name=""/>
          <p:cNvSpPr/>
          <p:nvPr/>
        </p:nvSpPr>
        <p:spPr>
          <a:xfrm>
            <a:off x="6446880" y="571608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13" name=""/>
          <p:cNvSpPr/>
          <p:nvPr/>
        </p:nvSpPr>
        <p:spPr>
          <a:xfrm>
            <a:off x="7333560" y="571608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740560" y="4140360"/>
            <a:ext cx="858240" cy="497880"/>
            <a:chOff x="5740560" y="4140360"/>
            <a:chExt cx="858240" cy="497880"/>
          </a:xfrm>
        </p:grpSpPr>
        <p:sp>
          <p:nvSpPr>
            <p:cNvPr id="615" name=""/>
            <p:cNvSpPr/>
            <p:nvPr/>
          </p:nvSpPr>
          <p:spPr>
            <a:xfrm>
              <a:off x="6194160" y="4140360"/>
              <a:ext cx="404640" cy="4978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40560" y="4148280"/>
              <a:ext cx="461520" cy="4798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4127040" y="4152960"/>
            <a:ext cx="859320" cy="497880"/>
            <a:chOff x="4127040" y="4152960"/>
            <a:chExt cx="859320" cy="497880"/>
          </a:xfrm>
        </p:grpSpPr>
        <p:sp>
          <p:nvSpPr>
            <p:cNvPr id="618" name=""/>
            <p:cNvSpPr/>
            <p:nvPr/>
          </p:nvSpPr>
          <p:spPr>
            <a:xfrm>
              <a:off x="4581360" y="4152960"/>
              <a:ext cx="405000" cy="4978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127040" y="4160880"/>
              <a:ext cx="461880" cy="479880"/>
            </a:xfrm>
            <a:prstGeom prst="line">
              <a:avLst/>
            </a:prstGeom>
            <a:ln w="381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c1f"/>
                </a:solidFill>
                <a:latin typeface="Optima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5402160" y="3308400"/>
            <a:ext cx="801720" cy="849240"/>
          </a:xfrm>
          <a:prstGeom prst="line">
            <a:avLst/>
          </a:prstGeom>
          <a:ln w="38160">
            <a:solidFill>
              <a:srgbClr val="7272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95400" y="3313080"/>
            <a:ext cx="800280" cy="851040"/>
          </a:xfrm>
          <a:prstGeom prst="line">
            <a:avLst/>
          </a:prstGeom>
          <a:ln w="38160">
            <a:solidFill>
              <a:srgbClr val="7272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22" name=""/>
          <p:cNvSpPr/>
          <p:nvPr/>
        </p:nvSpPr>
        <p:spPr>
          <a:xfrm>
            <a:off x="4633920" y="2502000"/>
            <a:ext cx="799920" cy="849240"/>
          </a:xfrm>
          <a:prstGeom prst="line">
            <a:avLst/>
          </a:prstGeom>
          <a:ln w="38160">
            <a:solidFill>
              <a:srgbClr val="7272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848040" y="2500200"/>
            <a:ext cx="798480" cy="851040"/>
          </a:xfrm>
          <a:prstGeom prst="line">
            <a:avLst/>
          </a:prstGeom>
          <a:ln w="38160">
            <a:solidFill>
              <a:srgbClr val="7272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24" name=""/>
          <p:cNvSpPr/>
          <p:nvPr/>
        </p:nvSpPr>
        <p:spPr>
          <a:xfrm>
            <a:off x="5622840" y="46494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25" name=""/>
          <p:cNvSpPr/>
          <p:nvPr/>
        </p:nvSpPr>
        <p:spPr>
          <a:xfrm>
            <a:off x="4924080" y="46494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26" name=""/>
          <p:cNvSpPr/>
          <p:nvPr/>
        </p:nvSpPr>
        <p:spPr>
          <a:xfrm>
            <a:off x="3946320" y="4649400"/>
            <a:ext cx="3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Z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27" name=""/>
          <p:cNvSpPr/>
          <p:nvPr/>
        </p:nvSpPr>
        <p:spPr>
          <a:xfrm>
            <a:off x="3709440" y="340452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odierung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098720" y="3886200"/>
          <a:ext cx="7848000" cy="1371600"/>
        </p:xfrm>
        <a:graphic>
          <a:graphicData uri="http://schemas.openxmlformats.org/drawingml/2006/table">
            <a:tbl>
              <a:tblPr/>
              <a:tblGrid>
                <a:gridCol w="1121040"/>
                <a:gridCol w="1121400"/>
                <a:gridCol w="1121040"/>
                <a:gridCol w="1121040"/>
                <a:gridCol w="1121040"/>
                <a:gridCol w="1121400"/>
                <a:gridCol w="1121040"/>
              </a:tblGrid>
              <a:tr h="69372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Z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6778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0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1</a:t>
                      </a:r>
                      <a:endParaRPr b="0" lang="en-US" sz="18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odier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31" name=""/>
          <p:cNvSpPr/>
          <p:nvPr/>
        </p:nvSpPr>
        <p:spPr>
          <a:xfrm>
            <a:off x="1790640" y="4438800"/>
            <a:ext cx="65786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c1f"/>
                </a:solidFill>
                <a:latin typeface="Courier New"/>
                <a:ea typeface="Courier New"/>
              </a:rPr>
              <a:t>01010111 01000001 01000100 01000100 01000101 00100000 01001000 01000001 01000100 01000100 01000101 00100000 01000100 01010101 01000100 01000100 01000101 00100000 01000100 01000001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32" name=""/>
          <p:cNvSpPr/>
          <p:nvPr/>
        </p:nvSpPr>
        <p:spPr>
          <a:xfrm>
            <a:off x="1790640" y="2813040"/>
            <a:ext cx="65786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110 101 0 0 110 100 11110 101 0 0 110 100 0 11111 0 0 110 100 0 101 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odier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34" name=""/>
          <p:cNvSpPr/>
          <p:nvPr/>
        </p:nvSpPr>
        <p:spPr>
          <a:xfrm>
            <a:off x="1790640" y="4438800"/>
            <a:ext cx="65786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c1f"/>
                </a:solidFill>
                <a:latin typeface="Courier New"/>
                <a:ea typeface="Courier New"/>
              </a:rPr>
              <a:t>0101011101000001010001000100010001000101001000000100100001000001010001000100010001000101001000000100010001010101010001000100010001000101001000000100010001000001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635" name=""/>
          <p:cNvSpPr/>
          <p:nvPr/>
        </p:nvSpPr>
        <p:spPr>
          <a:xfrm>
            <a:off x="1790640" y="2813040"/>
            <a:ext cx="65786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110101001101001111010100110100011111001101000101</a:t>
            </a:r>
            <a:endParaRPr b="0" lang="en-US" sz="24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"/>
          <p:cNvGraphicFramePr/>
          <p:nvPr/>
        </p:nvGraphicFramePr>
        <p:xfrm>
          <a:off x="1625760" y="2222640"/>
          <a:ext cx="7099200" cy="4457520"/>
        </p:xfrm>
        <a:graphic>
          <a:graphicData uri="http://schemas.openxmlformats.org/drawingml/2006/table">
            <a:tbl>
              <a:tblPr/>
              <a:tblGrid>
                <a:gridCol w="1774800"/>
                <a:gridCol w="1774800"/>
                <a:gridCol w="1774800"/>
                <a:gridCol w="1774800"/>
              </a:tblGrid>
              <a:tr h="22284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292c0d"/>
                          </a:solidFill>
                          <a:latin typeface="Optima"/>
                          <a:ea typeface="ヒラギノ角ゴ ProN W3"/>
                        </a:rPr>
                        <a:t>st</a:t>
                      </a:r>
                      <a:endParaRPr b="0" lang="en-US" sz="4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38160" marR="38160">
                    <a:lnL w="12240">
                      <a:solidFill>
                        <a:srgbClr val="292c1f"/>
                      </a:solidFill>
                    </a:lnL>
                    <a:lnR w="12240">
                      <a:solidFill>
                        <a:srgbClr val="292c1f"/>
                      </a:solidFill>
                    </a:lnR>
                    <a:lnT w="12240">
                      <a:solidFill>
                        <a:srgbClr val="292c1f"/>
                      </a:solidFill>
                    </a:lnT>
                    <a:lnB w="12240">
                      <a:solidFill>
                        <a:srgbClr val="292c1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292c0d"/>
                          </a:solidFill>
                          <a:latin typeface="Optima"/>
                          <a:ea typeface="ヒラギノ角ゴ ProN W3"/>
                        </a:rPr>
                        <a:t>au</a:t>
                      </a:r>
                      <a:endParaRPr b="0" lang="en-US" sz="4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38160" marR="38160">
                    <a:lnL w="12240">
                      <a:solidFill>
                        <a:srgbClr val="292c1f"/>
                      </a:solidFill>
                    </a:lnL>
                    <a:lnR w="12240">
                      <a:solidFill>
                        <a:srgbClr val="292c1f"/>
                      </a:solidFill>
                    </a:lnR>
                    <a:lnT w="12240">
                      <a:solidFill>
                        <a:srgbClr val="292c1f"/>
                      </a:solidFill>
                    </a:lnT>
                    <a:lnB w="12240">
                      <a:solidFill>
                        <a:srgbClr val="292c1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292c0d"/>
                          </a:solidFill>
                          <a:latin typeface="Optima"/>
                          <a:ea typeface="ヒラギノ角ゴ ProN W3"/>
                        </a:rPr>
                        <a:t>ei</a:t>
                      </a:r>
                      <a:endParaRPr b="0" lang="en-US" sz="4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38160" marR="38160">
                    <a:lnL w="12240">
                      <a:solidFill>
                        <a:srgbClr val="292c1f"/>
                      </a:solidFill>
                    </a:lnL>
                    <a:lnR w="12240">
                      <a:solidFill>
                        <a:srgbClr val="292c1f"/>
                      </a:solidFill>
                    </a:lnR>
                    <a:lnT w="12240">
                      <a:solidFill>
                        <a:srgbClr val="292c1f"/>
                      </a:solidFill>
                    </a:lnT>
                    <a:lnB w="12240">
                      <a:solidFill>
                        <a:srgbClr val="292c1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292c0d"/>
                          </a:solidFill>
                          <a:latin typeface="Optima"/>
                          <a:ea typeface="ヒラギノ角ゴ ProN W3"/>
                        </a:rPr>
                        <a:t>eu</a:t>
                      </a:r>
                      <a:endParaRPr b="0" lang="en-US" sz="4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38160" marR="38160">
                    <a:lnL w="12240">
                      <a:solidFill>
                        <a:srgbClr val="292c1f"/>
                      </a:solidFill>
                    </a:lnL>
                    <a:lnR w="12240">
                      <a:solidFill>
                        <a:srgbClr val="292c1f"/>
                      </a:solidFill>
                    </a:lnR>
                    <a:lnT w="12240">
                      <a:solidFill>
                        <a:srgbClr val="292c1f"/>
                      </a:solidFill>
                    </a:lnT>
                    <a:lnB w="12240">
                      <a:solidFill>
                        <a:srgbClr val="292c1f"/>
                      </a:solidFill>
                    </a:lnB>
                    <a:noFill/>
                  </a:tcPr>
                </a:tc>
              </a:tr>
              <a:tr h="22291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292c0d"/>
                          </a:solidFill>
                          <a:latin typeface="Optima"/>
                          <a:ea typeface="ヒラギノ角ゴ ProN W3"/>
                        </a:rPr>
                        <a:t>äu</a:t>
                      </a:r>
                      <a:endParaRPr b="0" lang="en-US" sz="4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38160" marR="38160">
                    <a:lnL w="12240">
                      <a:solidFill>
                        <a:srgbClr val="292c1f"/>
                      </a:solidFill>
                    </a:lnL>
                    <a:lnR w="12240">
                      <a:solidFill>
                        <a:srgbClr val="292c1f"/>
                      </a:solidFill>
                    </a:lnR>
                    <a:lnT w="12240">
                      <a:solidFill>
                        <a:srgbClr val="292c1f"/>
                      </a:solidFill>
                    </a:lnT>
                    <a:lnB w="12240">
                      <a:solidFill>
                        <a:srgbClr val="292c1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292c0d"/>
                          </a:solidFill>
                          <a:latin typeface="Optima"/>
                          <a:ea typeface="ヒラギノ角ゴ ProN W3"/>
                        </a:rPr>
                        <a:t>ie</a:t>
                      </a:r>
                      <a:endParaRPr b="0" lang="en-US" sz="4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38160" marR="38160">
                    <a:lnL w="12240">
                      <a:solidFill>
                        <a:srgbClr val="292c1f"/>
                      </a:solidFill>
                    </a:lnL>
                    <a:lnR w="12240">
                      <a:solidFill>
                        <a:srgbClr val="292c1f"/>
                      </a:solidFill>
                    </a:lnR>
                    <a:lnT w="12240">
                      <a:solidFill>
                        <a:srgbClr val="292c1f"/>
                      </a:solidFill>
                    </a:lnT>
                    <a:lnB w="12240">
                      <a:solidFill>
                        <a:srgbClr val="292c1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292c0d"/>
                          </a:solidFill>
                          <a:latin typeface="Optima"/>
                          <a:ea typeface="ヒラギノ角ゴ ProN W3"/>
                        </a:rPr>
                        <a:t>ch</a:t>
                      </a:r>
                      <a:endParaRPr b="0" lang="en-US" sz="4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38160" marR="38160">
                    <a:lnL w="12240">
                      <a:solidFill>
                        <a:srgbClr val="292c1f"/>
                      </a:solidFill>
                    </a:lnL>
                    <a:lnR w="12240">
                      <a:solidFill>
                        <a:srgbClr val="292c1f"/>
                      </a:solidFill>
                    </a:lnR>
                    <a:lnT w="12240">
                      <a:solidFill>
                        <a:srgbClr val="292c1f"/>
                      </a:solidFill>
                    </a:lnT>
                    <a:lnB w="12240">
                      <a:solidFill>
                        <a:srgbClr val="292c1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292c0d"/>
                          </a:solidFill>
                          <a:latin typeface="Optima"/>
                          <a:ea typeface="ヒラギノ角ゴ ProN W3"/>
                        </a:rPr>
                        <a:t>sch</a:t>
                      </a:r>
                      <a:endParaRPr b="0" lang="en-US" sz="4200" spc="-1" strike="noStrike">
                        <a:solidFill>
                          <a:srgbClr val="292c1f"/>
                        </a:solidFill>
                        <a:latin typeface="Optima"/>
                      </a:endParaRPr>
                    </a:p>
                  </a:txBody>
                  <a:tcPr anchor="t" marL="38160" marR="38160">
                    <a:lnL w="12240">
                      <a:solidFill>
                        <a:srgbClr val="292c1f"/>
                      </a:solidFill>
                    </a:lnL>
                    <a:lnR w="12240">
                      <a:solidFill>
                        <a:srgbClr val="292c1f"/>
                      </a:solidFill>
                    </a:lnR>
                    <a:lnT w="12240">
                      <a:solidFill>
                        <a:srgbClr val="292c1f"/>
                      </a:solidFill>
                    </a:lnT>
                    <a:lnB w="12240">
                      <a:solidFill>
                        <a:srgbClr val="292c1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2171880" y="3137040"/>
            <a:ext cx="761760" cy="10666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3924360" y="313704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7454880" y="313704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676840" y="313704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2171880" y="5283360"/>
            <a:ext cx="761760" cy="1066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>
            <a:off x="3924360" y="528336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5676840" y="528336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7454880" y="5283360"/>
            <a:ext cx="762120" cy="1066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600200" y="114480"/>
            <a:ext cx="74804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  <a:ea typeface="Optima"/>
              </a:rPr>
              <a:t>Braille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sms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99840" y="2425320"/>
            <a:ext cx="3746520" cy="9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c1f"/>
                </a:solidFill>
                <a:latin typeface="Optima"/>
              </a:rPr>
              <a:t>Hi, r u ok? c u l8r!</a:t>
            </a:r>
            <a:endParaRPr b="0" lang="en-US" sz="30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46" name=""/>
          <p:cNvSpPr/>
          <p:nvPr/>
        </p:nvSpPr>
        <p:spPr>
          <a:xfrm>
            <a:off x="1600200" y="3809880"/>
            <a:ext cx="7480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c1f"/>
                </a:solidFill>
                <a:latin typeface="Optima"/>
                <a:ea typeface="Optima"/>
              </a:rPr>
              <a:t>Hi, are you ok? see you later!</a:t>
            </a:r>
            <a:endParaRPr b="0" lang="en-US" sz="30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47" name=""/>
          <p:cNvSpPr/>
          <p:nvPr/>
        </p:nvSpPr>
        <p:spPr>
          <a:xfrm>
            <a:off x="8046360" y="5359320"/>
            <a:ext cx="101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c1f"/>
                </a:solidFill>
                <a:latin typeface="Optima"/>
                <a:ea typeface="Optima"/>
              </a:rPr>
              <a:t>20/30</a:t>
            </a:r>
            <a:endParaRPr b="0" lang="en-US" sz="30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Arten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00200" y="2400120"/>
            <a:ext cx="2921040" cy="39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c1f"/>
                </a:solidFill>
                <a:latin typeface="Optima"/>
              </a:rPr>
              <a:t>verlustfrei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Bei der Kompression bleibt die Qualität erhalten, sie ist umkehrbar.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gif, zip, rar, ...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Kompressionsraten bis 10 % möglich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50" name=""/>
          <p:cNvSpPr/>
          <p:nvPr/>
        </p:nvSpPr>
        <p:spPr>
          <a:xfrm>
            <a:off x="5956200" y="2400480"/>
            <a:ext cx="2921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c1f"/>
                </a:solidFill>
                <a:latin typeface="Optima"/>
                <a:ea typeface="Optima"/>
              </a:rPr>
              <a:t>verlustbehafte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>
              <a:lnSpc>
                <a:spcPct val="100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  <a:ea typeface="Optima"/>
              </a:rPr>
              <a:t>Bei der Kompression geht Qualität verloren, sie ist unumkehrbar.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>
              <a:lnSpc>
                <a:spcPct val="100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  <a:ea typeface="Optima"/>
              </a:rPr>
              <a:t>jpeg, mpeg , mp3 , ...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>
              <a:lnSpc>
                <a:spcPct val="100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  <a:ea typeface="Optima"/>
              </a:rPr>
              <a:t>Kompressionsraten bis 1 % sinnvoll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Bitmap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99840" y="2145960"/>
            <a:ext cx="74804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Jeder Pixel wird einzeln gespeichert.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=&gt; 600 x 400 Pixel, 8 Bit Farbtiefe hat folgenden Speicherbedarf: 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600 · 400 · 1 BYTE = 240000 BYTE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arbtiefe bis 32 Bit sind möglich.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keine Animationen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keine Transparenzen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3086280" y="1994040"/>
            <a:ext cx="4495680" cy="3416040"/>
            <a:chOff x="3086280" y="1994040"/>
            <a:chExt cx="4495680" cy="3416040"/>
          </a:xfrm>
        </p:grpSpPr>
        <p:pic>
          <p:nvPicPr>
            <p:cNvPr id="554" name="" descr=""/>
            <p:cNvPicPr/>
            <p:nvPr/>
          </p:nvPicPr>
          <p:blipFill>
            <a:blip r:embed="rId2"/>
            <a:srcRect l="5596" t="0" r="5394" b="0"/>
            <a:stretch/>
          </p:blipFill>
          <p:spPr>
            <a:xfrm>
              <a:off x="3213360" y="2120760"/>
              <a:ext cx="4241880" cy="31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3"/>
            <a:stretch/>
          </p:blipFill>
          <p:spPr>
            <a:xfrm>
              <a:off x="3086280" y="1994040"/>
              <a:ext cx="4495680" cy="34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44160" y="5562720"/>
            <a:ext cx="8178840" cy="157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82b1c"/>
                </a:solidFill>
                <a:latin typeface="Optima"/>
              </a:rPr>
              <a:t>bmp - 238 kByte</a:t>
            </a:r>
            <a:endParaRPr b="0" lang="en-US" sz="6400" spc="-1" strike="noStrike">
              <a:solidFill>
                <a:srgbClr val="282b1c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201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92c1f"/>
                </a:solidFill>
                <a:latin typeface="Optima"/>
              </a:rPr>
              <a:t>Graphics Interchange Format </a:t>
            </a:r>
            <a:endParaRPr b="0" lang="en-US" sz="6400" spc="-1" strike="noStrike">
              <a:solidFill>
                <a:srgbClr val="292c1f"/>
              </a:solidFill>
              <a:latin typeface="Opti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599840" y="2145960"/>
            <a:ext cx="74804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verlustfreie Kompression durch LZW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nebeneinander liegende Pixel mit gleicher Farbinformation werden gemeinsam gespeicher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Farbtiefe auf 8 Bit begrenzt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Animationen möglich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c1f"/>
                </a:solidFill>
                <a:latin typeface="Optima"/>
              </a:rPr>
              <a:t>Transparenzen möglich </a:t>
            </a:r>
            <a:endParaRPr b="0" lang="en-US" sz="2200" spc="-1" strike="noStrike">
              <a:solidFill>
                <a:srgbClr val="292c1f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3086280" y="1994040"/>
            <a:ext cx="4495680" cy="3416040"/>
            <a:chOff x="3086280" y="1994040"/>
            <a:chExt cx="4495680" cy="3416040"/>
          </a:xfrm>
        </p:grpSpPr>
        <p:pic>
          <p:nvPicPr>
            <p:cNvPr id="560" name="" descr=""/>
            <p:cNvPicPr/>
            <p:nvPr/>
          </p:nvPicPr>
          <p:blipFill>
            <a:blip r:embed="rId2"/>
            <a:srcRect l="5335" t="0" r="5600" b="0"/>
            <a:stretch/>
          </p:blipFill>
          <p:spPr>
            <a:xfrm>
              <a:off x="3213360" y="2120760"/>
              <a:ext cx="4241880" cy="31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3"/>
            <a:stretch/>
          </p:blipFill>
          <p:spPr>
            <a:xfrm>
              <a:off x="3086280" y="1994040"/>
              <a:ext cx="4495680" cy="34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4160" y="5562720"/>
            <a:ext cx="8178840" cy="1574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82b1c"/>
                </a:solidFill>
                <a:latin typeface="Optima"/>
              </a:rPr>
              <a:t>gif - 2,2 kByte</a:t>
            </a:r>
            <a:endParaRPr b="0" lang="en-US" sz="6400" spc="-1" strike="noStrike">
              <a:solidFill>
                <a:srgbClr val="282b1c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